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8B1-A0A4-4203-8635-BD9B40D66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CAD5-709E-4F0C-9875-CC7E9662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E465-287E-43E3-B74F-E00B2C5FE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2FB7-7F0B-4B39-9A50-83F6CAC4A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99A5-63AA-4BC2-95AC-C6E38E53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426CD-F3B8-448A-853B-7F8A9DA7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3BB7-B167-49FE-A8F1-890184E3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059-8476-41F2-A12F-A690EA8C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15EA-7EF6-43DB-A14D-18D0FFB97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31CC-9188-4B39-AAAD-A4DD8E32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EF97-7AC1-4BEF-B212-8BEEE3C62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0BD-DD37-4048-A1A3-DF9AE7758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0050-7109-4469-B047-26C041D32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y Instant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im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6"/>
          <a:stretch/>
        </p:blipFill>
        <p:spPr>
          <a:xfrm>
            <a:off x="15238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7"/>
          <a:stretch/>
        </p:blipFill>
        <p:spPr>
          <a:xfrm>
            <a:off x="15238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9"/>
          <a:stretch/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10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3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57200" y="228600"/>
          <a:ext cx="8229600" cy="58971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u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a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eri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7524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17524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7524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5"/>
          <a:stretch/>
        </p:blipFill>
        <p:spPr>
          <a:xfrm>
            <a:off x="1752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6"/>
          <a:stretch/>
        </p:blipFill>
        <p:spPr>
          <a:xfrm>
            <a:off x="1752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7"/>
          <a:stretch/>
        </p:blipFill>
        <p:spPr>
          <a:xfrm>
            <a:off x="1752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8"/>
          <a:stretch/>
        </p:blipFill>
        <p:spPr>
          <a:xfrm>
            <a:off x="175248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5248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0"/>
          <a:ext cx="8229600" cy="65833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85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l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t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ar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52480" y="304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752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7524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17524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752480" y="4267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17524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17524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17524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5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g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1600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1600200" y="5105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16002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o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nt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oug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0574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0574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20574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20574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20574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20574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20574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9"/>
          <a:stretch/>
        </p:blipFill>
        <p:spPr>
          <a:xfrm>
            <a:off x="20574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20574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457200" y="0"/>
          <a:ext cx="8229600" cy="6113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6192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f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5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4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1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12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o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1676520" y="838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16765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1676520" y="2057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1676520" y="2666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6"/>
          <a:stretch/>
        </p:blipFill>
        <p:spPr>
          <a:xfrm>
            <a:off x="16765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7"/>
          <a:stretch/>
        </p:blipFill>
        <p:spPr>
          <a:xfrm>
            <a:off x="1676520" y="3886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8"/>
          <a:stretch/>
        </p:blipFill>
        <p:spPr>
          <a:xfrm>
            <a:off x="1676520" y="4495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9"/>
          <a:stretch/>
        </p:blipFill>
        <p:spPr>
          <a:xfrm>
            <a:off x="1676520" y="5105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10"/>
          <a:stretch/>
        </p:blipFill>
        <p:spPr>
          <a:xfrm>
            <a:off x="1676520" y="571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457200" y="304920"/>
          <a:ext cx="8229600" cy="579096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u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8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r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7524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7524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7524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7524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17524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17524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8"/>
          <a:stretch/>
        </p:blipFill>
        <p:spPr>
          <a:xfrm>
            <a:off x="17524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9"/>
          <a:stretch/>
        </p:blipFill>
        <p:spPr>
          <a:xfrm>
            <a:off x="1752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457200" y="228600"/>
          <a:ext cx="8229600" cy="589428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498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r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8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60020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60020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16002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9"/>
          <a:stretch/>
        </p:blipFill>
        <p:spPr>
          <a:xfrm>
            <a:off x="16002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10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152280"/>
          <a:ext cx="8228160" cy="597348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ca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6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7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752480" y="380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752480" y="914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752480" y="1523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175248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175248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175248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175248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17524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17524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175248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5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fer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ictu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ga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ang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60020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002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160020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1600200" y="2743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16002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7"/>
          <a:stretch/>
        </p:blipFill>
        <p:spPr>
          <a:xfrm>
            <a:off x="16002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8"/>
          <a:stretch/>
        </p:blipFill>
        <p:spPr>
          <a:xfrm>
            <a:off x="16002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9"/>
          <a:stretch/>
        </p:blipFill>
        <p:spPr>
          <a:xfrm>
            <a:off x="16002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0"/>
          <a:stretch/>
        </p:blipFill>
        <p:spPr>
          <a:xfrm>
            <a:off x="160020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1:03:19Z</dcterms:created>
  <dc:creator>Cristi Parks</dc:creator>
  <dc:description/>
  <dc:language>en-US</dc:language>
  <cp:lastModifiedBy>oleynikm</cp:lastModifiedBy>
  <dcterms:modified xsi:type="dcterms:W3CDTF">2010-10-08T19:25:14Z</dcterms:modified>
  <cp:revision>47</cp:revision>
  <dc:subject/>
  <dc:title>Fry Instant Sight Words</dc:title>
</cp:coreProperties>
</file>